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C73-1A78-42FE-BA50-1C374B57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36F-9E21-4F67-B98B-0BD3EB28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D04-644F-4F2F-9334-C1B927E2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144-DD52-4D3E-BBDF-BF3CD3D0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A36-8D9C-4A49-9468-B5D2385B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246-5C74-4E1F-922C-BFBA5AB0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85B-C258-4D76-BF1E-3CAC2798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71A-28D6-47F6-99C3-1F6CB1B3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513-D9CF-4776-A77A-436A1A1C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782-DCB6-4269-9C52-A13A54E1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8C9-C0F8-4F0E-A12F-A527D647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B51-E86F-42C8-AA05-7CA14C03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6C24-68B2-49A0-8CC1-EC2083FC39D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29 Vzmuž sa, stádočko ty mal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muž sa, stádočko ty mal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nepriateľov nemaj stra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muž sa, Pán je s tebou stá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kroč s piesňou na per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zbrojí ťa svojou sil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neho sa spolieh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sa jemu zaľúbil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atený ti vrátiť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podliehaj sveta zvod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iam, čo ponú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áručí len Ježišov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ho blaha záruk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trpenia prídu mnoh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však hlavu smelo vzpri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skoro sa na obloh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vojej sláve zjaví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oji zostaň neochvej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zmi celú Božiu zb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a – Kráľa chválospev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tať radostne sa stro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trať nádej v žiadnej chví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ni keď si v tráp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Pán tých, čo preňho ži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ncom slávy odmení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5:27:03Z</dcterms:modified>
  <cp:revision>23</cp:revision>
  <dc:subject/>
  <dc:title>Je veľký náš Pán, on slávy je Kráľ Nech do všetkých strán  spev vrúcnych znie chvál.</dc:title>
</cp:coreProperties>
</file>